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08614-F0C7-4DB4-BE64-6192E313D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88629-7AFB-4651-82F5-D45232085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5559A-158A-4E10-91B6-A254CCE0B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80F40-3CC4-4D27-9A87-C325F1BC4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2985-D09A-4D9C-8CD2-AE2A494F8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A103A-8215-447B-8206-9D2F31CAB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3EE82-295E-473D-8F5D-1FDA55222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D7CFE-AC12-4D80-9FEB-356D135C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5207-D728-45FF-AFF6-1A286CE21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92EDD-E3CA-4098-823F-E76F9D5E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F57C-D54F-4269-BE9A-9508B4FAE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E20E5-E561-41C5-BC79-D4B33A72B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EC26C-9A36-4CFD-9BD2-AEFC26F4A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anpix.net/gallery/michael-jeter-pictures.ht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143360"/>
            <a:ext cx="7772400" cy="345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he Green Mile</a:t>
            </a:r>
            <a:br>
              <a:rPr sz="4400"/>
            </a:br>
            <a:r>
              <a:rPr b="0" lang="en-CA" sz="4400" spc="-1" strike="noStrike">
                <a:solidFill>
                  <a:srgbClr val="000000"/>
                </a:solidFill>
                <a:latin typeface="Arial"/>
              </a:rPr>
              <a:t>By: Stephen K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143000" y="6019560"/>
            <a:ext cx="6400800" cy="1981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y: Myra McGraw</a:t>
            </a:r>
            <a:endParaRPr b="0" lang="en-US" sz="3200" spc="-1" strike="noStrike">
              <a:solidFill>
                <a:srgbClr val="000000"/>
              </a:solidFill>
              <a:latin typeface="Arial"/>
            </a:endParaRPr>
          </a:p>
        </p:txBody>
      </p:sp>
      <p:pic>
        <p:nvPicPr>
          <p:cNvPr id="43" name="Picture 5" descr="B00003CWQU"/>
          <p:cNvPicPr/>
          <p:nvPr/>
        </p:nvPicPr>
        <p:blipFill>
          <a:blip r:embed="rId1"/>
          <a:stretch/>
        </p:blipFill>
        <p:spPr>
          <a:xfrm>
            <a:off x="3048120" y="1219320"/>
            <a:ext cx="2981160" cy="45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oug Hutchiso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ug Hutchison as Percy Wet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 isn’t that big of a star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think that is for a good rea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cause he did a really good jo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what he did he has a ve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esh acting style that you do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ee often and added so much to the film.</a:t>
            </a:r>
            <a:endParaRPr b="0" lang="en-US" sz="3200" spc="-1" strike="noStrike">
              <a:solidFill>
                <a:srgbClr val="000000"/>
              </a:solidFill>
              <a:latin typeface="Arial"/>
            </a:endParaRPr>
          </a:p>
        </p:txBody>
      </p:sp>
      <p:pic>
        <p:nvPicPr>
          <p:cNvPr id="64" name="Picture 5" descr="Doug Hutchison "/>
          <p:cNvPicPr/>
          <p:nvPr/>
        </p:nvPicPr>
        <p:blipFill>
          <a:blip r:embed="rId1"/>
          <a:stretch/>
        </p:blipFill>
        <p:spPr>
          <a:xfrm>
            <a:off x="6553080" y="2057400"/>
            <a:ext cx="217656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avid Mors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vid Morse as Brutus Howe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 was probably pick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cause of his siz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ecause Brutus is a larg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racter in the nove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 did a good job but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wasn’t the b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ut I can’t think of anyo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at could have done it anywa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5" descr="David+Morse"/>
          <p:cNvPicPr/>
          <p:nvPr/>
        </p:nvPicPr>
        <p:blipFill>
          <a:blip r:embed="rId1"/>
          <a:stretch/>
        </p:blipFill>
        <p:spPr>
          <a:xfrm>
            <a:off x="5334120" y="2133720"/>
            <a:ext cx="3809880" cy="29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am Rockwell</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am Rockwell as Wild Bill Whar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 did a very good job as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haracter and really got into 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ole which was demand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wouldn’t pick anyone else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that part because he did </a:t>
            </a:r>
            <a:endParaRPr b="0" lang="en-US" sz="3200" spc="-1" strike="noStrike">
              <a:solidFill>
                <a:srgbClr val="000000"/>
              </a:solidFill>
              <a:latin typeface="Arial"/>
            </a:endParaRPr>
          </a:p>
        </p:txBody>
      </p:sp>
      <p:pic>
        <p:nvPicPr>
          <p:cNvPr id="70" name="Picture 7" descr="sam_rockwell"/>
          <p:cNvPicPr/>
          <p:nvPr/>
        </p:nvPicPr>
        <p:blipFill>
          <a:blip r:embed="rId1"/>
          <a:stretch/>
        </p:blipFill>
        <p:spPr>
          <a:xfrm>
            <a:off x="6172200" y="2057400"/>
            <a:ext cx="2619360" cy="219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ichael Jet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ichael Jeter as Eduard Delacro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e did a very good job and 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ouldn’t pick anyone oth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n him he did a good jo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ortraying his character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ing his accent.</a:t>
            </a:r>
            <a:endParaRPr b="0" lang="en-US" sz="3200" spc="-1" strike="noStrike">
              <a:solidFill>
                <a:srgbClr val="000000"/>
              </a:solidFill>
              <a:latin typeface="Arial"/>
            </a:endParaRPr>
          </a:p>
        </p:txBody>
      </p:sp>
      <p:pic>
        <p:nvPicPr>
          <p:cNvPr id="73" name="Picture 5" descr="Michael Jeter Picture Gallery">
            <a:hlinkClick r:id="rId1"/>
          </p:cNvPr>
          <p:cNvPicPr/>
          <p:nvPr/>
        </p:nvPicPr>
        <p:blipFill>
          <a:blip r:embed="rId2"/>
          <a:stretch/>
        </p:blipFill>
        <p:spPr>
          <a:xfrm>
            <a:off x="6172200" y="2362320"/>
            <a:ext cx="21240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haracter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John Coff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aul Edgecom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rutus “Brutal” Ho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rcy We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duard Delacro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Wild Bill” Whart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ean Stan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limax</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limax in the book is when Percy Wetmore intended to kill Eduard Delacroix by not wetting the sponge. John Coffey tries to take revenge on Percy by infecting him and causing him to go mad. Then Percy walks up to Wild Bill’s cell and shots him to d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nflic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re are a lot of conflicts between characters in this movie. Percy Wetmore is probably the only character in the book that is involved with every conflict. Percy and Eduard have a lot of conflict Percy has no respect for the inmates on the mile and it upsets the other guards that try to keep the inmates calm so they don’t sn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rcy acts like the victim when people try to tell him what to do and the other guards really don’t like him when he murdered Eduard Brutus punched him in the face. The other guards do not like Percy at all and want him gone off the block, but Percy has connection and they have to put up with him but it causes a lot of tension. If Percy hadn’t held a grudge against Eduard then he wouldn’t have murdered him and got away with it and Brutus didn’t punch Percy then he wouldn’t have moved to another infirmary because if he had stayed he might have botched John Coffey’s execution. Brutus could have told the warrant what really happened and had Percy fired because later on John punished Percy and now his whole life is screwed 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heme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Green Mile refers to the corridor in the prison that the inmates have to walk down the day they have to be executed. The tile on the floor is green in the corridor. I think it’s a good choice to name the book because the book is based in the prison and the things that happen within it, and one of the most important thing that happens is on the green m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Writing Sty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eath row was called "the Last Mile". We called ours "the Green Mile" - the floor was the color of faded lim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on the Mile stays on the Mile. Always ha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ach owe a death — there are no exceptions — but, oh God, sometimes the Green Mile seems so lo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damn it, Percy, get the hell off my block!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tired, boss. Tired of bein' on the road, lonely as a sparrow in the rain. I'm tired of never having me a buddy to be with, to tell me where we's going to, or coming from, or why. Mostly I'm tired of people being ugly to each other. I'm tired of all the pain I feel and hear in the world every day. There's too much of it. It's like pieces of glass in my head all the time. Can you understa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304920"/>
            <a:ext cx="8001000" cy="76176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roadway"/>
              </a:rPr>
              <a:t>The Movie</a:t>
            </a:r>
            <a:endParaRPr b="0" lang="en-US" sz="4400" spc="-1" strike="noStrike">
              <a:solidFill>
                <a:srgbClr val="000000"/>
              </a:solidFill>
              <a:latin typeface="Arial"/>
            </a:endParaRPr>
          </a:p>
        </p:txBody>
      </p:sp>
      <p:sp>
        <p:nvSpPr>
          <p:cNvPr id="45" name="PlaceHolder 2"/>
          <p:cNvSpPr>
            <a:spLocks noGrp="1"/>
          </p:cNvSpPr>
          <p:nvPr>
            <p:ph/>
          </p:nvPr>
        </p:nvSpPr>
        <p:spPr>
          <a:xfrm>
            <a:off x="533160" y="1371600"/>
            <a:ext cx="8305560" cy="502920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roadway"/>
              </a:rPr>
              <a:t>The book was written by Stephen King and made into a movie under the same name in 1999. The movie was directed by Frank Darabont and included a wide variety of top celebrities. The movie went on to be nominated for 4 Oscars they won 13 awards including best supporting actor and best picture and had another 23 nomi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2971800" y="20574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5" descr="green-mile"/>
          <p:cNvPicPr/>
          <p:nvPr/>
        </p:nvPicPr>
        <p:blipFill>
          <a:blip r:embed="rId1"/>
          <a:stretch/>
        </p:blipFill>
        <p:spPr>
          <a:xfrm>
            <a:off x="0" y="0"/>
            <a:ext cx="3502080" cy="2627280"/>
          </a:xfrm>
          <a:prstGeom prst="rect">
            <a:avLst/>
          </a:prstGeom>
          <a:ln w="0">
            <a:noFill/>
          </a:ln>
        </p:spPr>
      </p:pic>
      <p:pic>
        <p:nvPicPr>
          <p:cNvPr id="89" name="Picture 7" descr="sam_rockwell_the_green_mile_001"/>
          <p:cNvPicPr/>
          <p:nvPr/>
        </p:nvPicPr>
        <p:blipFill>
          <a:blip r:embed="rId2"/>
          <a:stretch/>
        </p:blipFill>
        <p:spPr>
          <a:xfrm>
            <a:off x="3505320" y="0"/>
            <a:ext cx="2228760" cy="3333600"/>
          </a:xfrm>
          <a:prstGeom prst="rect">
            <a:avLst/>
          </a:prstGeom>
          <a:ln w="0">
            <a:noFill/>
          </a:ln>
        </p:spPr>
      </p:pic>
      <p:pic>
        <p:nvPicPr>
          <p:cNvPr id="90" name="Picture 9" descr="the_green_mile_61"/>
          <p:cNvPicPr/>
          <p:nvPr/>
        </p:nvPicPr>
        <p:blipFill>
          <a:blip r:embed="rId3"/>
          <a:stretch/>
        </p:blipFill>
        <p:spPr>
          <a:xfrm>
            <a:off x="5334120" y="0"/>
            <a:ext cx="3809880" cy="2543040"/>
          </a:xfrm>
          <a:prstGeom prst="rect">
            <a:avLst/>
          </a:prstGeom>
          <a:ln w="0">
            <a:noFill/>
          </a:ln>
        </p:spPr>
      </p:pic>
      <p:pic>
        <p:nvPicPr>
          <p:cNvPr id="91" name="Picture 11" descr="johncoffeyisnoshortcustomer"/>
          <p:cNvPicPr/>
          <p:nvPr/>
        </p:nvPicPr>
        <p:blipFill>
          <a:blip r:embed="rId4"/>
          <a:stretch/>
        </p:blipFill>
        <p:spPr>
          <a:xfrm>
            <a:off x="4857840" y="2438280"/>
            <a:ext cx="4286160" cy="2419560"/>
          </a:xfrm>
          <a:prstGeom prst="rect">
            <a:avLst/>
          </a:prstGeom>
          <a:ln w="0">
            <a:noFill/>
          </a:ln>
        </p:spPr>
      </p:pic>
      <p:pic>
        <p:nvPicPr>
          <p:cNvPr id="92" name="Picture 13" descr="david_morse_the_green_mile_001"/>
          <p:cNvPicPr/>
          <p:nvPr/>
        </p:nvPicPr>
        <p:blipFill>
          <a:blip r:embed="rId5"/>
          <a:stretch/>
        </p:blipFill>
        <p:spPr>
          <a:xfrm>
            <a:off x="0" y="2514600"/>
            <a:ext cx="2228760" cy="3333600"/>
          </a:xfrm>
          <a:prstGeom prst="rect">
            <a:avLst/>
          </a:prstGeom>
          <a:ln w="0">
            <a:noFill/>
          </a:ln>
        </p:spPr>
      </p:pic>
      <p:pic>
        <p:nvPicPr>
          <p:cNvPr id="93" name="Picture 15" descr="The-Green-Mile-the-green-mile-8223913-720-405"/>
          <p:cNvPicPr/>
          <p:nvPr/>
        </p:nvPicPr>
        <p:blipFill>
          <a:blip r:embed="rId6"/>
          <a:stretch/>
        </p:blipFill>
        <p:spPr>
          <a:xfrm>
            <a:off x="0" y="4543560"/>
            <a:ext cx="4114800" cy="2314440"/>
          </a:xfrm>
          <a:prstGeom prst="rect">
            <a:avLst/>
          </a:prstGeom>
          <a:ln w="0">
            <a:noFill/>
          </a:ln>
        </p:spPr>
      </p:pic>
      <p:pic>
        <p:nvPicPr>
          <p:cNvPr id="94" name="Picture 17" descr="Green-Mile-Dale_l"/>
          <p:cNvPicPr/>
          <p:nvPr/>
        </p:nvPicPr>
        <p:blipFill>
          <a:blip r:embed="rId7"/>
          <a:stretch/>
        </p:blipFill>
        <p:spPr>
          <a:xfrm>
            <a:off x="1981080" y="2571840"/>
            <a:ext cx="3124440" cy="2055600"/>
          </a:xfrm>
          <a:prstGeom prst="rect">
            <a:avLst/>
          </a:prstGeom>
          <a:ln w="0">
            <a:noFill/>
          </a:ln>
        </p:spPr>
      </p:pic>
      <p:pic>
        <p:nvPicPr>
          <p:cNvPr id="95" name="Picture 19" descr="20431-24647"/>
          <p:cNvPicPr/>
          <p:nvPr/>
        </p:nvPicPr>
        <p:blipFill>
          <a:blip r:embed="rId8"/>
          <a:stretch/>
        </p:blipFill>
        <p:spPr>
          <a:xfrm>
            <a:off x="6086520" y="4572000"/>
            <a:ext cx="3057480" cy="2286000"/>
          </a:xfrm>
          <a:prstGeom prst="rect">
            <a:avLst/>
          </a:prstGeom>
          <a:ln w="0">
            <a:noFill/>
          </a:ln>
        </p:spPr>
      </p:pic>
      <p:pic>
        <p:nvPicPr>
          <p:cNvPr id="96" name="Picture 21" descr="green_l"/>
          <p:cNvPicPr/>
          <p:nvPr/>
        </p:nvPicPr>
        <p:blipFill>
          <a:blip r:embed="rId9"/>
          <a:stretch/>
        </p:blipFill>
        <p:spPr>
          <a:xfrm>
            <a:off x="4114800" y="4495680"/>
            <a:ext cx="2133720" cy="236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a- So Paul what did you see happen tonight at Eduard Delacroix execu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ler- What I saw was a mess, Percy screw up as always but in the end the results were the same Eduard Delacroix is dead, he was punished by the same crime that convicted him justice was ser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a- So will Percy’s mistake be punish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ler- No he executed Eduard and he has put in a transfer to Briar he won’t be suspended I’m just glad I don’t have to put up with him no lo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a- Sounds like you and Percy didn’t have a good relationshi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ler- No this isn’t his first mistake and it won’t be his l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omic"/>
              </a:rPr>
              <a:t>Summary</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800600"/>
          </a:xfrm>
          <a:prstGeom prst="rect">
            <a:avLst/>
          </a:prstGeom>
          <a:solidFill>
            <a:srgbClr val="ffffff"/>
          </a:solidFill>
          <a:ln w="0">
            <a:noFill/>
          </a:ln>
        </p:spPr>
        <p:txBody>
          <a:bodyPr anchor="t">
            <a:normAutofit fontScale="94000"/>
          </a:bodyPr>
          <a:p>
            <a:pPr marL="322200" indent="-32220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Berlin Sans FB"/>
              </a:rPr>
              <a:t>John Coffey was arrested and charged with the murdering and raping of two girls that were sisters. The longer he stays on the mile the more the guards are questioning whether or not if he was really guilty as strange things began to unfold. They realize that John Coffey has a special gift from God. The main guard Paul Edgecombe who was suffering from a urinary infection was walking a little to close to the cell when John Coffey reach out and grabbed Paul. To Paul’s shock and amazement John Coffey opened his mouth and out came a large cloud of small insects that disappeared into thin air but that wasn’t the only thing that disappeared by some miracle Paul infection was gone. Now it is up to Paul and the rest of his guards to decide whether or not they should kill what they think is the greatest gift from God or follow the law and kill these bl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haracters- John Coffe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John Coffey (Physica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ery largely built probably stands close to 7 feet tal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frican America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a lot of scars over his body</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ald</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Emotional)</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being a very large man he cries a lo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grets a lot of decisions he made in his lif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nly has the best intention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ries to help out anyone he could out of the goodness of his hear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has a childish nature and is still afraid of the dark</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is not very educated, he can’t read or righ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Relational)</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guards on the green mile all like and respect him expect for Percy Wetmor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Engravers MT"/>
              </a:rPr>
              <a:t>Percy Wetmo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Physical</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21 years o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Shorter then the other charac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as black slick hair </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Emot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a spoiled brat that thinks he can do whatever he wants because his uncle is the mayor.</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abusive to the inma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Coward he was scared of Wild Bill and hi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a bit of a baby and cries when he doesn’t get his own way</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He is known as the villain in this novel because he does little things to just be cruel, like when he step on Mr. Jing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Relat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Baskerville Old Face"/>
              </a:rPr>
              <a:t>Everyone on the mile hates him and doesn’t want him t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ernard MT Condensed"/>
              </a:rPr>
              <a:t>Paul Edgecomb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Physica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e is a taller person</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as dark brown hair and blue eyes</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Emotiona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e is a emotional strong man</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He is very religious and tries his best to do the right thing without breaking the law. He didn’t want to execute John Coffey because he thought he was a gift from God and doesn’t want god to think the only reason he killed John Coffey was because it was his job.</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Caring towards the inmates even thought they are there for a good reason he let’s God take care of them</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Strict he is the boss on the mile and he keeps things in order </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Controlling things are to be done his way or no way at al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Relational</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The inmates on the mile respect him because he shows them respect. Percy Wetmore doesn’t like him because he thinks that Paul bullies him.</a:t>
            </a:r>
            <a:endParaRPr b="0" lang="en-US" sz="1800" spc="-1" strike="noStrike">
              <a:solidFill>
                <a:srgbClr val="000000"/>
              </a:solidFill>
              <a:latin typeface="Arial"/>
            </a:endParaRPr>
          </a:p>
          <a:p>
            <a:pPr marL="339480" indent="-339480">
              <a:lnSpc>
                <a:spcPct val="80000"/>
              </a:lnSpc>
              <a:spcBef>
                <a:spcPts val="45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rlin Sans FB Demi"/>
              </a:rPr>
              <a:t>The other guards look up to him as a role mod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528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haracter Mapping</a:t>
            </a:r>
            <a:endParaRPr b="0" lang="en-US" sz="4400" spc="-1" strike="noStrike">
              <a:solidFill>
                <a:srgbClr val="000000"/>
              </a:solidFill>
              <a:latin typeface="Arial"/>
            </a:endParaRPr>
          </a:p>
        </p:txBody>
      </p:sp>
      <p:sp>
        <p:nvSpPr>
          <p:cNvPr id="55" name=""/>
          <p:cNvSpPr txBox="1"/>
          <p:nvPr/>
        </p:nvSpPr>
        <p:spPr>
          <a:xfrm>
            <a:off x="457200" y="685440"/>
            <a:ext cx="8229600" cy="6172200"/>
          </a:xfrm>
          <a:prstGeom prst="rect">
            <a:avLst/>
          </a:prstGeom>
          <a:solidFill>
            <a:srgbClr val="ffffff"/>
          </a:solid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 important event that happened in the novel was when Paul agreed with John that  he should be executed. Paul saw how John could cure people with his own hands like when Percy stepped on Mr. Jingles and killed him John put him in his hands and sucked the disease out of him and when Paul himself had the urinary infection John cured him with his touch. Paul has realized that John is not guilty of the crimes he was accused of Paul thinks that John was only trying to heal the two little girls when he found them but it was to late and at the time he was trying to save them the search party found him and wrongly convicted him. Paul knew that John needed to be out of the prison and out putting his blessing to good use but he doesn’t want to lose his job because its the great depression and times are hard as it is. Paul wanted to let John go but couldn’t until he found out that the warrants wife was very sick with a brain tumour and it couldn’t be operated on, Paul broke John out of prison and took him to the warrants house so he could cure his wife. The warrant could have fired Paul or even shot John but when he saw John’s gift he didn’t. I think that Paul should have told people about John’s gift and let him prove it to people instead of obeying the law. At first Paul thought that John was guilty and so did the rest of the guards except Percy and the warrant  until they saw his gift. If Paul showed other people they probably would have let him go free but instead Paul didn’t. The day that John had to be executed John told  Paul that he wanted to die because he didn’t like living in a world with such bad people and he is tired of the pain that he goes through because the takes other people’s pain away. An important event that happen because Paul didn’t let John go was when John sucked the disease out of  the warrant’s wife he held in it until he got to the prison and grabbed Percy through the bars and blew it into Percy’s mouth. Because he did that Percy when crazy got his gun out and shot Wild Bill. Percy had to go to an insane asylum  for the rest of his lif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Bodoni MT Poster Compressed"/>
              </a:rPr>
              <a:t>Recommendations</a:t>
            </a:r>
            <a:br>
              <a:rPr sz="4000"/>
            </a:br>
            <a:r>
              <a:rPr b="0" lang="en-CA" sz="4000" spc="-1" strike="noStrike">
                <a:solidFill>
                  <a:srgbClr val="000000"/>
                </a:solidFill>
                <a:latin typeface="Arial"/>
              </a:rPr>
              <a:t>Tom Hank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000000"/>
              </a:buClr>
              <a:buFont typeface="Blackadder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Tom Hanks as Paul Egdecomb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He was amazing in the film, he ha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great acting ability and no o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could have done it better then hi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He knows how to be serious in 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lackadder ITC"/>
              </a:rPr>
              <a:t>film and makes it genuine.</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8" name="Picture 5" descr="tomhanks"/>
          <p:cNvPicPr/>
          <p:nvPr/>
        </p:nvPicPr>
        <p:blipFill>
          <a:blip r:embed="rId1"/>
          <a:stretch/>
        </p:blipFill>
        <p:spPr>
          <a:xfrm>
            <a:off x="6705720" y="3200400"/>
            <a:ext cx="227484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50000">
              <a:srgbClr val="003300"/>
            </a:gs>
            <a:gs pos="100000">
              <a:srgbClr val="0099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ichael Clarke Dunca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ichael Clarke Duncan as John Coff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ot only did he play the 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hysically but he also pl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t emotionally too. He did 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mazing job and I would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change his ro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5" descr="18138__mcd_l"/>
          <p:cNvPicPr/>
          <p:nvPr/>
        </p:nvPicPr>
        <p:blipFill>
          <a:blip r:embed="rId1"/>
          <a:stretch/>
        </p:blipFill>
        <p:spPr>
          <a:xfrm>
            <a:off x="6095880" y="2209680"/>
            <a:ext cx="2868840" cy="350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2:47:17Z</dcterms:created>
  <dc:creator>School District 14</dc:creator>
  <dc:description/>
  <dc:language>en-US</dc:language>
  <cp:lastModifiedBy>School District 14</cp:lastModifiedBy>
  <dcterms:modified xsi:type="dcterms:W3CDTF">2010-06-08T13:44:30Z</dcterms:modified>
  <cp:revision>14</cp:revision>
  <dc:subject/>
  <dc:title>The Green Mile</dc:title>
</cp:coreProperties>
</file>